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29A2E-5EA5-49EA-BC16-E21E83FB4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19CB8-E30C-40B9-B92A-9729DD13D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19494-1218-4F6C-AD98-78D1124A5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47ACC-A73C-47AE-9A14-7C9F12F5E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4B32A-57B4-42EC-A713-7977C77F6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9E993-C257-492C-9E65-AAC8AD72D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6E2A0-506A-4E94-AB1C-FC014534F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0A158-F378-4527-9B06-090B41EAC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859BF-3887-43F8-B02C-70EFD24B3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637CE-9509-44E8-8B7C-DDEFCA2B9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BB401-D0D6-482E-A4EF-444EE3364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6E685-AC7B-4C87-83EE-14C7AAD8B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D92C5-48B6-40EF-A787-8782B91E4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48167-FCE4-486B-83AD-D890EC90D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CC6C5-EC26-4E33-9EA7-35A507FBA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A4A8F8-D0D9-4AA2-8CEE-414E1496EB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516FF-F9E4-4B5D-A620-2CCEA92F2D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5F78F-9324-4AF7-9122-591A40161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FAC54-C9CD-44D9-8E97-5800548B7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C802E-5D25-4940-941D-B1F84BEDD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0B283-4DE2-4705-97A6-66608A14E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2ADA8-4DAA-413A-AE5F-1BC0BA8A7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0F684-6672-422C-AF49-597BE65C5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797BB-EA00-4E43-882F-74AA154D6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Book Antiqu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Book Antiqu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6A28-FDDD-46CC-BB48-C2EF2E84098A}" type="slidenum">
              <a:rPr b="0" lang="ru-RU" sz="1400" spc="-1" strike="noStrike">
                <a:solidFill>
                  <a:srgbClr val="ffffff"/>
                </a:solidFill>
                <a:latin typeface="Arial"/>
              </a:rPr>
              <a:t>&lt;number&gt;</a:t>
            </a:fld>
            <a:endParaRPr b="0" lang="en-US" sz="1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Book Antiqua"/>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Book Antiqua"/>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E445-D7F7-4836-92A0-A1B60685FDD8}" type="slidenum">
              <a:rPr b="0" lang="ru-RU" sz="1400" spc="-1" strike="noStrike">
                <a:solidFill>
                  <a:srgbClr val="ffffff"/>
                </a:solidFill>
                <a:latin typeface="Arial"/>
              </a:rPr>
              <a:t>&lt;number&gt;</a:t>
            </a:fld>
            <a:endParaRPr b="0" lang="en-US" sz="1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468360" y="1557360"/>
            <a:ext cx="8229600" cy="3240000"/>
          </a:xfrm>
          <a:prstGeom prst="rect">
            <a:avLst/>
          </a:prstGeom>
          <a:noFill/>
          <a:ln w="0">
            <a:noFill/>
          </a:ln>
        </p:spPr>
        <p:txBody>
          <a:bodyPr lIns="90000" rIns="90000" tIns="46800" bIns="46800" anchor="t">
            <a:norm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0000"/>
                </a:solidFill>
                <a:latin typeface="Times New Roman"/>
              </a:rPr>
              <a:t>Әртүрлі стандарттардың сипаттамасы</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01680" y="1676520"/>
            <a:ext cx="8540640" cy="34812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г) техникалық талаптар стандарттары</a:t>
            </a:r>
            <a:r>
              <a:rPr b="1" lang="ru-RU" sz="3200" spc="-1" strike="noStrike">
                <a:solidFill>
                  <a:srgbClr val="ffffff"/>
                </a:solidFill>
                <a:latin typeface="Times New Roman"/>
              </a:rPr>
              <a:t> - техникалық шарттар стандарттарының бір бөлімінен ғана тұратын тар мағынадағы стандарттар (мысалы, МЕМСТ 20902-95) «Тамақтану столдары. Функционалдық өлшемдер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txBox="1"/>
          <p:nvPr/>
        </p:nvSpPr>
        <p:spPr>
          <a:xfrm>
            <a:off x="301680" y="1676160"/>
            <a:ext cx="8540640" cy="405756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1" lang="ru-RU" sz="3200" spc="-1" strike="noStrike">
                <a:solidFill>
                  <a:srgbClr val="ffff00"/>
                </a:solidFill>
                <a:latin typeface="Times New Roman"/>
              </a:rPr>
              <a:t>Бақылау әдістерінің стандарттары</a:t>
            </a:r>
            <a:r>
              <a:rPr b="1" lang="ru-RU" sz="3200" spc="-1" strike="noStrike">
                <a:solidFill>
                  <a:srgbClr val="ffffff"/>
                </a:solidFill>
                <a:latin typeface="Times New Roman"/>
              </a:rPr>
              <a:t> - өнімді (қызметті) жасау, сертификаттау және қолдану кезінде сынау, өлшеу, талдау әдістерін жүргізуді орнатады (мысалы, ҚР СТ 1049-2001 «Премикстар. Талдау әдістері»). Стандарттарда орнатылатын бақылау әдістері объективті және нақты болуы қажет.</a:t>
            </a:r>
            <a:r>
              <a:rPr b="0" lang="ru-RU" sz="3200" spc="-1" strike="noStrike">
                <a:solidFill>
                  <a:srgbClr val="ffffff"/>
                </a:solidFill>
                <a:latin typeface="Times New Roman"/>
              </a:rPr>
              <a:t> </a:t>
            </a:r>
            <a:endParaRPr b="0" lang="en-US" sz="3200" spc="-1" strike="noStrike">
              <a:solidFill>
                <a:srgbClr val="ffffff"/>
              </a:solidFill>
              <a:latin typeface="Arial"/>
            </a:endParaRPr>
          </a:p>
        </p:txBody>
      </p:sp>
      <p:sp>
        <p:nvSpPr>
          <p:cNvPr id="96" name="Объект 2"/>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0000"/>
                </a:solidFill>
                <a:latin typeface="Times New Roman"/>
              </a:rPr>
              <a:t>Бақылау әдістерінің стандартары</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179280" y="1700280"/>
            <a:ext cx="8785440" cy="4465440"/>
          </a:xfrm>
          <a:prstGeom prst="rect">
            <a:avLst/>
          </a:prstGeom>
          <a:noFill/>
          <a:ln w="0">
            <a:noFill/>
          </a:ln>
        </p:spPr>
        <p:txBody>
          <a:bodyPr lIns="90000" rIns="90000" tIns="46800" bIns="46800"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1" lang="ru-RU" sz="3200" spc="-1" strike="noStrike">
                <a:solidFill>
                  <a:srgbClr val="ffffff"/>
                </a:solidFill>
                <a:latin typeface="Times New Roman"/>
              </a:rPr>
              <a:t>сынау құралдары, қосымша тетіктер, реактивтер, материалдар;</a:t>
            </a:r>
            <a:endParaRPr b="0" lang="en-US" sz="3200" spc="-1" strike="noStrike">
              <a:solidFill>
                <a:srgbClr val="ffffff"/>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сынауды жүргізуге дауындау тәртібі;</a:t>
            </a:r>
            <a:endParaRPr b="0" lang="en-US" sz="3200" spc="-1" strike="noStrike">
              <a:solidFill>
                <a:srgbClr val="ffffff"/>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сынауды жүргізу тәртібі;</a:t>
            </a:r>
            <a:endParaRPr b="0" lang="en-US" sz="3200" spc="-1" strike="noStrike">
              <a:solidFill>
                <a:srgbClr val="ffffff"/>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сынау нәтижелерін өңдеу тәртібі;</a:t>
            </a:r>
            <a:endParaRPr b="0" lang="en-US" sz="3200" spc="-1" strike="noStrike">
              <a:solidFill>
                <a:srgbClr val="ffffff"/>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сынау нәтижелерін дайындау тәртібі;</a:t>
            </a:r>
            <a:endParaRPr b="0" lang="en-US" sz="3200" spc="-1" strike="noStrike">
              <a:solidFill>
                <a:srgbClr val="ffffff"/>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сынаудың мүмкін қателіктері.</a:t>
            </a:r>
            <a:endParaRPr b="0" lang="en-US" sz="3200" spc="-1" strike="noStrike">
              <a:solidFill>
                <a:srgbClr val="ffffff"/>
              </a:solidFill>
              <a:latin typeface="Arial"/>
            </a:endParaRPr>
          </a:p>
        </p:txBody>
      </p:sp>
      <p:sp>
        <p:nvSpPr>
          <p:cNvPr id="98" name="Объект 2"/>
          <p:cNvSpPr/>
          <p:nvPr/>
        </p:nvSpPr>
        <p:spPr>
          <a:xfrm>
            <a:off x="468360" y="260280"/>
            <a:ext cx="8229600" cy="1152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00"/>
                </a:solidFill>
                <a:latin typeface="Times New Roman"/>
              </a:rPr>
              <a:t>Әрбір әдіске оны өткізу ерекшелігіне байланысты орнатады:</a:t>
            </a:r>
            <a:r>
              <a:rPr b="0" lang="ru-RU" sz="3200" spc="-1" strike="noStrike">
                <a:solidFill>
                  <a:srgbClr val="ffffff"/>
                </a:solidFill>
                <a:latin typeface="Arial"/>
              </a:rPr>
              <a:t>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179280" y="765000"/>
            <a:ext cx="8785440" cy="561672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Стандарттар тар мақсатты</a:t>
            </a:r>
            <a:r>
              <a:rPr b="1" lang="ru-RU" sz="3200" spc="-1" strike="noStrike">
                <a:solidFill>
                  <a:srgbClr val="ffffff"/>
                </a:solidFill>
                <a:latin typeface="Times New Roman"/>
              </a:rPr>
              <a:t> - сапаның бір көрсеткішін тесеру немесе </a:t>
            </a:r>
            <a:r>
              <a:rPr b="1" lang="ru-RU" sz="3200" spc="-1" strike="noStrike">
                <a:solidFill>
                  <a:srgbClr val="ffff00"/>
                </a:solidFill>
                <a:latin typeface="Times New Roman"/>
              </a:rPr>
              <a:t>кең мақсатты</a:t>
            </a:r>
            <a:r>
              <a:rPr b="1" lang="ru-RU" sz="3200" spc="-1" strike="noStrike">
                <a:solidFill>
                  <a:srgbClr val="ffffff"/>
                </a:solidFill>
                <a:latin typeface="Times New Roman"/>
              </a:rPr>
              <a:t> - көрсеткіштер кешенің тексеру.  Сертификаттау тәжірибесі аралас түрдегі стандарттарды жасауды қажет етті. өнімге және бақылау әдістернің стандарттары, соның ішінде өнім қауіпсіздігіне жіне қауіпсіздікті бақылау әдістеріне талаптар (мысалы, МЕМСТ 25779-90 «ойыншықтар. Қауіпсіздік және бақылау әдістеріне жалпы талапта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468000" y="1341360"/>
            <a:ext cx="8351640" cy="4464000"/>
          </a:xfrm>
          <a:prstGeom prst="rect">
            <a:avLst/>
          </a:prstGeom>
          <a:noFill/>
          <a:ln w="0">
            <a:noFill/>
          </a:ln>
        </p:spPr>
        <p:txBody>
          <a:bodyPr lIns="90000" rIns="90000" tIns="46800" bIns="46800" anchor="t">
            <a:normAutofit fontScale="99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Үрдіс стандарттары</a:t>
            </a:r>
            <a:r>
              <a:rPr b="1" lang="ru-RU" sz="3200" spc="-1" strike="noStrike">
                <a:solidFill>
                  <a:srgbClr val="ffffff"/>
                </a:solidFill>
                <a:latin typeface="Times New Roman"/>
              </a:rPr>
              <a:t> - өнімнің өмірдік циклының (жасауда, дайындауда, сақтауда, транспорттауда, пайдалануда, жөндеуде және жоюда) жеке кезеңдерінде әртүрлі жұмыстарды орындау әдістеріне талаптар орнатады.  Мысалы, МЕМСТ 26907-86 «Қант. Ұзақ сақтау шарттары», МЕМСТ 7595-79 «Ет. Сиыр етін бөлшек сауда үшін бөлу».</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Объект 2"/>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0000"/>
                </a:solidFill>
                <a:latin typeface="Times New Roman"/>
              </a:rPr>
              <a:t>Үрдіс стандартары</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179280" y="1052640"/>
            <a:ext cx="8640720" cy="374472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Үрдіс стандарттары технологиялық операцияларды жүргізу кезінде қоршаған ортаны қорғау және адам өмірі мен денсаулығы үшін қауіпсіздік талаптарынан тұрады. Қазіргі кезде сапа менеджменті жүйесінің шеңберіндегі басқару үрдісінің стандарттары үлкен мәнге ие.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179280" y="2133360"/>
            <a:ext cx="8640720" cy="432108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	</a:t>
            </a:r>
            <a:r>
              <a:rPr b="1" lang="ru-RU" sz="3200" spc="-1" strike="noStrike">
                <a:solidFill>
                  <a:srgbClr val="ffffff"/>
                </a:solidFill>
                <a:latin typeface="Times New Roman"/>
              </a:rPr>
              <a:t>Қазақстан Республикасының әрекеттегі заңнамаларына және мемлекеттік стандарттау жүйесінің стандарттарына сәйкес шаруашылық субъектілерімен өнімді өңдіруде және қызмет көрсетуде халыөаралық, өңірлік және шет мемлкеттердің ұлттық стандарттарын қолдануға болады.</a:t>
            </a:r>
            <a:endParaRPr b="0" lang="en-US" sz="3200" spc="-1" strike="noStrike">
              <a:solidFill>
                <a:srgbClr val="ffffff"/>
              </a:solidFill>
              <a:latin typeface="Arial"/>
            </a:endParaRPr>
          </a:p>
        </p:txBody>
      </p:sp>
      <p:sp>
        <p:nvSpPr>
          <p:cNvPr id="104" name="Объект 2"/>
          <p:cNvSpPr/>
          <p:nvPr/>
        </p:nvSpPr>
        <p:spPr>
          <a:xfrm>
            <a:off x="468360" y="260280"/>
            <a:ext cx="8229600" cy="1584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imes New Roman"/>
              </a:rPr>
              <a:t>ҚР халықаралық, өңірлік және шет мемлекеттердің ұлттық стандарттарын қолдану тәртібі</a:t>
            </a:r>
            <a:r>
              <a:rPr b="0" lang="ru-RU" sz="3200" spc="-1" strike="noStrike">
                <a:solidFill>
                  <a:srgbClr val="ffffff"/>
                </a:solidFill>
                <a:latin typeface="Arial"/>
              </a:rPr>
              <a:t>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179280" y="1484280"/>
            <a:ext cx="8785440" cy="4608720"/>
          </a:xfrm>
          <a:prstGeom prst="rect">
            <a:avLst/>
          </a:prstGeom>
          <a:noFill/>
          <a:ln w="0">
            <a:noFill/>
          </a:ln>
        </p:spPr>
        <p:txBody>
          <a:bodyPr lIns="90000" rIns="90000" tIns="46800" bIns="46800"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республикада әрекет ететін заңдардың талаптарына қайшы келмейтін, соның ішінде қоршаған ортаны қорғау және адам өмірі мен денсаулығы үшін қауіпсіздік талаптарына;</a:t>
            </a:r>
            <a:endParaRPr b="0" lang="en-US" sz="3200" spc="-1" strike="noStrike">
              <a:solidFill>
                <a:srgbClr val="ffffff"/>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ҚР экономикасына жауап беретін және ҚР территориясында жұмыс істейтін жеке және заңды тұлғалардың құқықтарын бұзбайтын.</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Объект 2"/>
          <p:cNvSpPr/>
          <p:nvPr/>
        </p:nvSpPr>
        <p:spPr>
          <a:xfrm>
            <a:off x="468360" y="260280"/>
            <a:ext cx="8229600" cy="5763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00"/>
                </a:solidFill>
                <a:latin typeface="Arial"/>
              </a:rPr>
              <a:t>Қолдануға жатады:</a:t>
            </a:r>
            <a:r>
              <a:rPr b="0" lang="ru-RU" sz="3200" spc="-1" strike="noStrike">
                <a:solidFill>
                  <a:srgbClr val="ffff00"/>
                </a:solidFill>
                <a:latin typeface="Arial"/>
              </a:rPr>
              <a:t>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0" y="1628640"/>
            <a:ext cx="8964720" cy="52293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республиканың экономикалық мүдделерін қорғау;</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ҚР мемлкеттік стандарттау жүйесін халықаралық талаптармен үйлестіру;</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әлемдік нарықта отандық өнімнің бәсекеге қабілеттілігін мен деңгейін көтеру және сыртқы зкономикалық байланыстарда техникалық кедергіледі жою;</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басқа мемлекеттердің ғылыми-техникалық жетістіктерін пайдалану;</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халықаралық ,өңірлік және шет мемлекеттердің ұлттық стандарттарын кең қолдану негізінде мемлкеттік стандарттар қорын қалыптастыру.</a:t>
            </a:r>
            <a:endParaRPr b="0" lang="en-US" sz="2800" spc="-1" strike="noStrike">
              <a:solidFill>
                <a:srgbClr val="ffffff"/>
              </a:solidFill>
              <a:latin typeface="Arial"/>
            </a:endParaRPr>
          </a:p>
        </p:txBody>
      </p:sp>
      <p:sp>
        <p:nvSpPr>
          <p:cNvPr id="108" name="Объект 2"/>
          <p:cNvSpPr/>
          <p:nvPr/>
        </p:nvSpPr>
        <p:spPr>
          <a:xfrm>
            <a:off x="468360" y="189000"/>
            <a:ext cx="8229600" cy="151128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00"/>
                </a:solidFill>
                <a:latin typeface="Times New Roman"/>
              </a:rPr>
              <a:t>Республикада басқа мемлекеттердің қолдану ьойынша жұмыстарды жүргізудің негізгі мақсаты:</a:t>
            </a:r>
            <a:r>
              <a:rPr b="0" lang="ru-RU" sz="3200" spc="-1" strike="noStrike">
                <a:solidFill>
                  <a:srgbClr val="ffffff"/>
                </a:solidFill>
                <a:latin typeface="Arial"/>
              </a:rPr>
              <a:t>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250920" y="1484280"/>
            <a:ext cx="8642160" cy="3889440"/>
          </a:xfrm>
          <a:prstGeom prst="rect">
            <a:avLst/>
          </a:prstGeom>
          <a:noFill/>
          <a:ln w="0">
            <a:noFill/>
          </a:ln>
        </p:spPr>
        <p:txBody>
          <a:bodyPr lIns="90000" rIns="90000" tIns="46800" bIns="46800"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1" lang="ru-RU" sz="3200" spc="-1" strike="noStrike">
                <a:solidFill>
                  <a:srgbClr val="ffffff"/>
                </a:solidFill>
                <a:latin typeface="Times New Roman"/>
              </a:rPr>
              <a:t>оларды Қазақстан Республикасының нормативтік құжаттар негізінде дайындамай, қолданушы-кәсіпорынның аутентикалық аударымдарымдарын тікелей қолдау арқылы,</a:t>
            </a:r>
            <a:endParaRPr b="0" lang="en-US" sz="3200" spc="-1" strike="noStrike">
              <a:solidFill>
                <a:srgbClr val="ffffff"/>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Қазақстан Республикасының нормативтік құжаттары арқылы.</a:t>
            </a:r>
            <a:endParaRPr b="0" lang="en-US" sz="3200" spc="-1" strike="noStrike">
              <a:solidFill>
                <a:srgbClr val="ffffff"/>
              </a:solidFill>
              <a:latin typeface="Arial"/>
            </a:endParaRPr>
          </a:p>
        </p:txBody>
      </p:sp>
      <p:sp>
        <p:nvSpPr>
          <p:cNvPr id="110" name="Объект 2"/>
          <p:cNvSpPr/>
          <p:nvPr/>
        </p:nvSpPr>
        <p:spPr>
          <a:xfrm>
            <a:off x="468360" y="189000"/>
            <a:ext cx="8229600" cy="1152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00"/>
                </a:solidFill>
                <a:latin typeface="Times New Roman"/>
              </a:rPr>
              <a:t>Республикада шет мемлекеттердің стандарттарын қолдану жүргізіледі:</a:t>
            </a:r>
            <a:r>
              <a:rPr b="0" lang="ru-RU" sz="3200" spc="-1" strike="noStrike">
                <a:solidFill>
                  <a:srgbClr val="ffff00"/>
                </a:solidFill>
                <a:latin typeface="Times New Roman"/>
              </a:rPr>
              <a:t>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468360" y="1052280"/>
            <a:ext cx="8229600" cy="5329080"/>
          </a:xfrm>
          <a:prstGeom prst="rect">
            <a:avLst/>
          </a:prstGeom>
          <a:noFill/>
          <a:ln w="0">
            <a:noFill/>
          </a:ln>
        </p:spPr>
        <p:txBody>
          <a:bodyPr lIns="90000" rIns="90000" tIns="46800" bIns="46800" anchor="t">
            <a:normAutofit fontScale="88000"/>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Негіз қалаушы стандарттар анықталған іс-әрекет саласы үшін жалпы ұйымдастыру-әдістемелік ережелерді, өзара түсінушілікті, техникалық бірдейлікті, өнімді, үрдісті және қызметті құру мен қолдану үрдісінде, әртүрлі ғылым, техника және өңдіріс салаларының байланыстылығын  қамтамасыз ететін жалпытехникалық талаптар мен ережелерді және басқа да талаптарды орнатады. </a:t>
            </a:r>
            <a:endParaRPr b="0" lang="en-US" sz="3600" spc="-1" strike="noStrike">
              <a:solidFill>
                <a:srgbClr val="ffffff"/>
              </a:solidFill>
              <a:latin typeface="Arial"/>
            </a:endParaRPr>
          </a:p>
        </p:txBody>
      </p:sp>
      <p:sp>
        <p:nvSpPr>
          <p:cNvPr id="83" name="Объект 2"/>
          <p:cNvSpPr/>
          <p:nvPr/>
        </p:nvSpPr>
        <p:spPr>
          <a:xfrm>
            <a:off x="468360" y="333360"/>
            <a:ext cx="8229600" cy="792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imes New Roman"/>
              </a:rPr>
              <a:t>Негіз қалаушы стандарттар</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250560" y="333360"/>
            <a:ext cx="8713800" cy="619128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	</a:t>
            </a:r>
            <a:r>
              <a:rPr b="1" lang="ru-RU" sz="3200" spc="-1" strike="noStrike">
                <a:solidFill>
                  <a:srgbClr val="ffffff"/>
                </a:solidFill>
                <a:latin typeface="Times New Roman"/>
              </a:rPr>
              <a:t>Шет мемлекеттердің өңірлік және ұлттық стандарттарын қолдану үшін қажетті шарт, стандарттау және сертификаттау саласында Қазақстан Республикасымен және шет мемлекеттермен немесе өңірлік ұйымдармен жасалатын ынтымақтастық туралы екі жақты келісімшарттар болып табылады. </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200" spc="-1" strike="noStrike">
                <a:solidFill>
                  <a:srgbClr val="ffffff"/>
                </a:solidFill>
                <a:latin typeface="Times New Roman"/>
              </a:rPr>
              <a:t>Стандарттарды қолдану үшін негіз болатын келісімшарттар болмаған жағдайда, онда стандартты қолдануға фирмалармен жасалған келісімдер негіз блуы мүмкін.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a:off x="395280" y="1844640"/>
            <a:ext cx="8353440" cy="4608720"/>
          </a:xfrm>
          <a:prstGeom prst="rect">
            <a:avLst/>
          </a:prstGeom>
          <a:noFill/>
          <a:ln w="0">
            <a:noFill/>
          </a:ln>
        </p:spPr>
        <p:txBody>
          <a:bodyPr lIns="90000" rIns="90000" tIns="46800" bIns="46800" anchor="t">
            <a:normAutofit fontScale="98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1" lang="ru-RU" sz="3200" spc="-1" strike="noStrike">
                <a:solidFill>
                  <a:srgbClr val="ffffff"/>
                </a:solidFill>
                <a:latin typeface="Times New Roman"/>
              </a:rPr>
              <a:t>аталған шетелдік стандарт негізінде Қазақстан Республикасының нормативтік құжатын дайындау;</a:t>
            </a:r>
            <a:endParaRPr b="0" lang="en-US" sz="3200" spc="-1" strike="noStrike">
              <a:solidFill>
                <a:srgbClr val="ffffff"/>
              </a:solidFill>
              <a:latin typeface="Arial"/>
            </a:endParaRPr>
          </a:p>
          <a:p>
            <a:pPr algn="just">
              <a:lnSpc>
                <a:spcPct val="10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200" spc="-1" strike="noStrike">
                <a:solidFill>
                  <a:srgbClr val="ffffff"/>
                </a:solidFill>
                <a:latin typeface="Times New Roman"/>
              </a:rPr>
              <a:t>онда орнатылған талаптарды ҚР нормативтік құжаттарын жасау немес қайта қарау кезінде енгізу.</a:t>
            </a:r>
            <a:endParaRPr b="0" lang="en-US" sz="3200" spc="-1" strike="noStrike">
              <a:solidFill>
                <a:srgbClr val="ffffff"/>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Бірінші тәсіл шетелдік стандарттың толық мәтінің өзгертусіз ҚР норматитвтік құжаттарына енгізуді ұйғарады.</a:t>
            </a:r>
            <a:r>
              <a:rPr b="0" lang="ru-RU" sz="3200" spc="-1" strike="noStrike">
                <a:solidFill>
                  <a:srgbClr val="ffffff"/>
                </a:solidFill>
                <a:latin typeface="Times New Roman"/>
              </a:rPr>
              <a:t> </a:t>
            </a:r>
            <a:endParaRPr b="0" lang="en-US" sz="3200" spc="-1" strike="noStrike">
              <a:solidFill>
                <a:srgbClr val="ffffff"/>
              </a:solidFill>
              <a:latin typeface="Arial"/>
            </a:endParaRPr>
          </a:p>
        </p:txBody>
      </p:sp>
      <p:sp>
        <p:nvSpPr>
          <p:cNvPr id="113" name="Объект 2"/>
          <p:cNvSpPr/>
          <p:nvPr/>
        </p:nvSpPr>
        <p:spPr>
          <a:xfrm>
            <a:off x="468360" y="189000"/>
            <a:ext cx="8229600" cy="151128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00"/>
                </a:solidFill>
                <a:latin typeface="Times New Roman"/>
              </a:rPr>
              <a:t>ҚР нормативтік құжаты арқылы шет мелекеттердің стандарттарын қолдану келесі жолмен жүргізіледі:</a:t>
            </a:r>
            <a:r>
              <a:rPr b="0" lang="ru-RU" sz="3200" spc="-1" strike="noStrike">
                <a:solidFill>
                  <a:srgbClr val="ffff00"/>
                </a:solidFill>
                <a:latin typeface="Times New Roman"/>
              </a:rPr>
              <a:t>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179280" y="1341360"/>
            <a:ext cx="8785440" cy="5516640"/>
          </a:xfrm>
          <a:prstGeom prst="rect">
            <a:avLst/>
          </a:prstGeom>
          <a:noFill/>
          <a:ln w="0">
            <a:noFill/>
          </a:ln>
        </p:spPr>
        <p:txBody>
          <a:bodyPr lIns="90000" rIns="90000" tIns="46800" bIns="4680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1" lang="ru-RU" sz="3000" spc="-1" strike="noStrike">
                <a:solidFill>
                  <a:srgbClr val="ffffff"/>
                </a:solidFill>
                <a:latin typeface="Times New Roman"/>
              </a:rPr>
              <a:t>қосымша талаптар енгізусіз стандарттың аутентикалық  мәтінің мазмұндау;</a:t>
            </a:r>
            <a:endParaRPr b="0" lang="en-US" sz="30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 қосымша талаптар енгізу арқылы стандарттың аутентикалық мәтінің мазмұндау. Бұл жағдайда нормативтік құжатқа енгізілген қосымша талаптарды мәтін бойынша курсивті қаріппен белгілеу арқылы дайындалады.  Осындай құжаттың кіріспе бөлімінде көрсетілген қосымшаларға келесі нұсқаулар болады: «Республиканың қажеттіліктерін бейнелейтін қосымшалар курсивті қаріппен көрсетілген».</a:t>
            </a:r>
            <a:endParaRPr b="0" lang="en-US" sz="3000" spc="-1" strike="noStrike">
              <a:solidFill>
                <a:srgbClr val="ffffff"/>
              </a:solidFill>
              <a:latin typeface="Arial"/>
            </a:endParaRPr>
          </a:p>
        </p:txBody>
      </p:sp>
      <p:sp>
        <p:nvSpPr>
          <p:cNvPr id="115" name="Объект 2"/>
          <p:cNvSpPr/>
          <p:nvPr/>
        </p:nvSpPr>
        <p:spPr>
          <a:xfrm>
            <a:off x="468360" y="189000"/>
            <a:ext cx="8229600" cy="100800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00"/>
                </a:solidFill>
                <a:latin typeface="Times New Roman"/>
              </a:rPr>
              <a:t>Нормативтік құжатты дайындау жүргізіледі:</a:t>
            </a:r>
            <a:r>
              <a:rPr b="0" lang="ru-RU" sz="3200" spc="-1" strike="noStrike">
                <a:solidFill>
                  <a:srgbClr val="ffff00"/>
                </a:solidFill>
                <a:latin typeface="Times New Roman"/>
              </a:rPr>
              <a:t>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250560" y="333360"/>
            <a:ext cx="8713800" cy="619128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	</a:t>
            </a:r>
            <a:r>
              <a:rPr b="1" lang="kk-KZ" sz="3200" spc="-1" strike="noStrike">
                <a:solidFill>
                  <a:srgbClr val="ffffff"/>
                </a:solidFill>
                <a:latin typeface="Times New Roman"/>
              </a:rPr>
              <a:t>Екінші тәсіл нормативтік құжаттың сәйкес бөлімдері мен қосымшаларында шетелдік стандарттың толық мәтінің келтіруді, мәтінді келтірусіз осы стандартқа нұақады жүргізуді және сонымен қатар нормативтік құжаттың үйлестірілуі жүргізілетін тек сол талаптарды келтіруді қарастырад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250560" y="1125000"/>
            <a:ext cx="8713800" cy="453564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	</a:t>
            </a:r>
            <a:r>
              <a:rPr b="1" lang="kk-KZ" sz="3200" spc="-1" strike="noStrike">
                <a:solidFill>
                  <a:srgbClr val="ffffff"/>
                </a:solidFill>
                <a:latin typeface="Times New Roman"/>
              </a:rPr>
              <a:t>Халықаралық, өңірлік және шет мемлекеттердің ұлттық стандарттарын қолдану негізінде жасалған нормативтік құжаттар туралы ақпарат, стандарттау, метрология және сертификаттау жөніндегі Комитеттінің  өкілетті органы шығаратын жыл сайынғы ақпараттық сілтемелерде жарияланад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179280" y="260280"/>
            <a:ext cx="8785440" cy="6121440"/>
          </a:xfrm>
          <a:prstGeom prst="rect">
            <a:avLst/>
          </a:prstGeom>
          <a:noFill/>
          <a:ln w="0">
            <a:noFill/>
          </a:ln>
        </p:spPr>
        <p:txBody>
          <a:bodyPr lIns="90000" rIns="90000" tIns="46800" bIns="46800" anchor="t">
            <a:normAutofit fontScale="97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1" lang="ru-RU" sz="2800" spc="-1" strike="noStrike">
                <a:solidFill>
                  <a:srgbClr val="ffffff"/>
                </a:solidFill>
                <a:latin typeface="Times New Roman"/>
              </a:rPr>
              <a:t>Кең мағынада негіз қалаушы стандарттар мемлекеттік және салааралық мәнге ие: мемлкеттік стандарттау жүйесі, мемлекеттік сертификаттау жүйесі, мемлекеттік өлшем бірегейлігін қаматамысз ету жүйесі, құрылымды құжаттардың бірегей жүйесі, салааралық мәндегі өлшем бірліктері, терминдер және анықтамалар (сапаны басқару, сенімділік, орау).</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Тар мағынада негіз қалаушы стандарттар - нақты жүйедегі стандарттар кешеніндегі жалпы ережелерді анықтайтын стандарт. Мысалы: ҚР СТ 1.0-2000 «Қазақстан Республикасының мемлекеттік стандарттау жүйесі. Негізгі ережелер»</a:t>
            </a:r>
            <a:r>
              <a:rPr b="1" lang="ru-RU" sz="2800" spc="-1" strike="noStrike">
                <a:solidFill>
                  <a:srgbClr val="ffffff"/>
                </a:solidFill>
                <a:latin typeface="Times New Roman"/>
              </a:rPr>
              <a:t>.</a:t>
            </a:r>
            <a:endParaRPr b="0" lang="en-US" sz="28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360" y="1412640"/>
            <a:ext cx="8893080" cy="48956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а) ұйымдастыру-әдістемелік, анықталған салада жұмыстарды жүргізу бойынша ұйымдастыру-техникалық ережелерді орнатады (мысалы, ҚР СТ 1.2-2002 «ҚРМСЖ. Мемлкеттік стандарттарды жасау тәртібі»; ҚР СТ 1081-2002 «тағам өнімдеріне технологиялық нұсқаулар және рецептер жасау тәртібі. Негізгі ержелер»);</a:t>
            </a:r>
            <a:endParaRPr b="0" lang="en-US" sz="3200" spc="-1" strike="noStrike">
              <a:solidFill>
                <a:srgbClr val="ffffff"/>
              </a:solidFill>
              <a:latin typeface="Arial"/>
            </a:endParaRPr>
          </a:p>
        </p:txBody>
      </p:sp>
      <p:sp>
        <p:nvSpPr>
          <p:cNvPr id="86" name="Объект 2"/>
          <p:cNvSpPr/>
          <p:nvPr/>
        </p:nvSpPr>
        <p:spPr>
          <a:xfrm>
            <a:off x="468360" y="260280"/>
            <a:ext cx="8229600" cy="93672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imes New Roman"/>
              </a:rPr>
              <a:t>Негіз қалаушы стандарттарды бөлуге болады:</a:t>
            </a:r>
            <a:r>
              <a:rPr b="1" lang="ru-RU" sz="3200" spc="-1" strike="noStrike">
                <a:solidFill>
                  <a:srgbClr val="ffffff"/>
                </a:solidFill>
                <a:latin typeface="Times New Roman"/>
              </a:rPr>
              <a:t>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179280" y="260280"/>
            <a:ext cx="8785440" cy="64087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б) жалпытехникалық, орнатады:</a:t>
            </a:r>
            <a:endParaRPr b="0" lang="en-US" sz="3200" spc="-1" strike="noStrike">
              <a:solidFill>
                <a:srgbClr val="ffffff"/>
              </a:solidFill>
              <a:latin typeface="Arial"/>
            </a:endParaRPr>
          </a:p>
          <a:p>
            <a:pPr marL="343080" indent="-343080" algn="just">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ғылымда, техникада және өңдірісте қолданылатын ғылыми-техникалық терминдер (мысалы, МЕМСТ 16263-70 «мемлкеттік өлшем бірегейлігін қамтамасыз ету жүйесі. Метрология, терминдер мен анықтамалар»);</a:t>
            </a:r>
            <a:endParaRPr b="0" lang="en-US" sz="2000" spc="-1" strike="noStrike">
              <a:solidFill>
                <a:srgbClr val="ffffff"/>
              </a:solidFill>
              <a:latin typeface="Arial"/>
            </a:endParaRPr>
          </a:p>
          <a:p>
            <a:pPr marL="343080" indent="-343080" algn="just">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стандарттау объектілерінің әртүрлі белгілену шарттары - кодтар, таңбалар, белгілер, маркалар (мысалы, МЕМСТ 14192-96 «жүктерді таңбалау», ҚР СТ 1003-98);</a:t>
            </a:r>
            <a:endParaRPr b="0" lang="en-US" sz="2000" spc="-1" strike="noStrike">
              <a:solidFill>
                <a:srgbClr val="ffffff"/>
              </a:solidFill>
              <a:latin typeface="Arial"/>
            </a:endParaRPr>
          </a:p>
          <a:p>
            <a:pPr marL="343080" indent="-343080" algn="just">
              <a:lnSpc>
                <a:spcPct val="8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әртүрлі құжаттардың құрылуына, жазылуына, дайындалуына және мазмұнына талаптар (мысалы, ҚР СТ 1.5-2000 «ҚРМСЖ. Стандарттың құрылуына, жазылуына, дайындалуына және мазмұнына жалпы талаптар»);</a:t>
            </a:r>
            <a:endParaRPr b="0" lang="en-US" sz="2000" spc="-1" strike="noStrike">
              <a:solidFill>
                <a:srgbClr val="ffffff"/>
              </a:solidFill>
              <a:latin typeface="Arial"/>
            </a:endParaRPr>
          </a:p>
          <a:p>
            <a:pPr marL="343080" indent="-343080" algn="just">
              <a:lnSpc>
                <a:spcPct val="8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техникалық қамтамасыз етуге қажет жалпытехникалық шамалар, талаптар мен нормалар (мысалы, МЕМСТ 8.417-81 «Мемлекеттік өлшем бірегейлігін қаматамысз ету жүйесі. Физикалық шамалар бірліктері»); </a:t>
            </a:r>
            <a:endParaRPr b="0" lang="en-US" sz="2000" spc="-1" strike="noStrike">
              <a:solidFill>
                <a:srgbClr val="ffffff"/>
              </a:solidFill>
              <a:latin typeface="Arial"/>
            </a:endParaRPr>
          </a:p>
          <a:p>
            <a:pPr marL="343080" indent="-343080" algn="just">
              <a:lnSpc>
                <a:spcPct val="8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сапа көрсеткіштерінің номенклатурасы (мысалы, ҚР СТ 1043-2001 «Желдік эрозиямен күрес үшін машыналар»);</a:t>
            </a:r>
            <a:endParaRPr b="0" lang="en-US" sz="2000" spc="-1" strike="noStrike">
              <a:solidFill>
                <a:srgbClr val="ffffff"/>
              </a:solidFill>
              <a:latin typeface="Arial"/>
            </a:endParaRPr>
          </a:p>
          <a:p>
            <a:pPr marL="343080" indent="-343080" algn="just">
              <a:lnSpc>
                <a:spcPct val="8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қауіпсіздік талаптары (мысалы, ҚР СТ 12.002-2002 «еңбек қауіпсіздігі стандарттар жүйесі. өңдірістік үрдістер. Қой шаруашылылығы. Қауіпсіздік талаптары») және т.б.</a:t>
            </a:r>
            <a:endParaRPr b="0" lang="en-US" sz="2000" spc="-1" strike="noStrike">
              <a:solidFill>
                <a:srgbClr val="ffffff"/>
              </a:solidFill>
              <a:latin typeface="Arial"/>
            </a:endParaRPr>
          </a:p>
          <a:p>
            <a:pPr marL="343080" indent="-343080" algn="just">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txBox="1"/>
          <p:nvPr/>
        </p:nvSpPr>
        <p:spPr>
          <a:xfrm>
            <a:off x="395280" y="1557000"/>
            <a:ext cx="8291520" cy="4568760"/>
          </a:xfrm>
          <a:prstGeom prst="rect">
            <a:avLst/>
          </a:prstGeom>
          <a:noFill/>
          <a:ln w="0">
            <a:noFill/>
          </a:ln>
        </p:spPr>
        <p:txBody>
          <a:bodyPr lIns="90000" rIns="90000" tIns="46800" bIns="46800" anchor="t">
            <a:normAutofit fontScale="99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1" lang="ru-RU" sz="3200" spc="-1" strike="noStrike">
                <a:solidFill>
                  <a:srgbClr val="ffffff"/>
                </a:solidFill>
                <a:latin typeface="Times New Roman"/>
              </a:rPr>
              <a:t>Өнім және қызмет стандарттары біртекті өнім және қызмет топтарына немесе нақты нақты өнім және қызметке талаптар орнатады.</a:t>
            </a:r>
            <a:endParaRPr b="0" lang="en-US" sz="3200" spc="-1" strike="noStrike">
              <a:solidFill>
                <a:srgbClr val="ffffff"/>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200" spc="-1" strike="noStrike">
                <a:solidFill>
                  <a:srgbClr val="ffff00"/>
                </a:solidFill>
                <a:latin typeface="Times New Roman"/>
              </a:rPr>
              <a:t>Біртекті өнім</a:t>
            </a:r>
            <a:r>
              <a:rPr b="1" lang="ru-RU" sz="3200" spc="-1" strike="noStrike">
                <a:solidFill>
                  <a:srgbClr val="ffffff"/>
                </a:solidFill>
                <a:latin typeface="Times New Roman"/>
              </a:rPr>
              <a:t> - өнімнің негізгі көрсеткіштерінің құрылымды-технологиялық мәселелерін шешуді, қолдану саласын және жалпы мақсатын сипаттайтын өнімдер жиынтығы. </a:t>
            </a:r>
            <a:endParaRPr b="0" lang="en-US" sz="3200" spc="-1" strike="noStrike">
              <a:solidFill>
                <a:srgbClr val="ffffff"/>
              </a:solidFill>
              <a:latin typeface="Arial"/>
            </a:endParaRPr>
          </a:p>
          <a:p>
            <a:pPr>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Объект 2"/>
          <p:cNvSpPr/>
          <p:nvPr/>
        </p:nvSpPr>
        <p:spPr>
          <a:xfrm>
            <a:off x="468360" y="260280"/>
            <a:ext cx="8229600" cy="936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imes New Roman"/>
              </a:rPr>
              <a:t>Өнім және қызмет стандарттары</a:t>
            </a:r>
            <a:r>
              <a:rPr b="1" lang="ru-RU" sz="3200" spc="-1" strike="noStrike">
                <a:solidFill>
                  <a:srgbClr val="ffffff"/>
                </a:solidFill>
                <a:latin typeface="Times New Roman"/>
              </a:rPr>
              <a:t>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179280" y="2133360"/>
            <a:ext cx="8785440" cy="4174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а) жалпы техникалық шарттар стандарттары</a:t>
            </a:r>
            <a:r>
              <a:rPr b="1" lang="ru-RU" sz="3200" spc="-1" strike="noStrike">
                <a:solidFill>
                  <a:srgbClr val="ffffff"/>
                </a:solidFill>
                <a:latin typeface="Times New Roman"/>
              </a:rPr>
              <a:t> - біртекті өнім (қызмет) топтарына талаптардан тұрады. (мысалы, ҚР СТ 1061-2002 «Сүтқышқылды өнімдер. Жалпы техникалық шарттар», ҚР СТ 1040-2001 «Жолаушы тасымалы бойынша транспорттық қызметтер. Жалпы техникалық шаттар»);</a:t>
            </a:r>
            <a:endParaRPr b="0" lang="en-US" sz="3200" spc="-1" strike="noStrike">
              <a:solidFill>
                <a:srgbClr val="ffffff"/>
              </a:solidFill>
              <a:latin typeface="Arial"/>
            </a:endParaRPr>
          </a:p>
        </p:txBody>
      </p:sp>
      <p:sp>
        <p:nvSpPr>
          <p:cNvPr id="91" name="Объект 2"/>
          <p:cNvSpPr/>
          <p:nvPr/>
        </p:nvSpPr>
        <p:spPr>
          <a:xfrm>
            <a:off x="468360" y="260280"/>
            <a:ext cx="8229600" cy="115272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0000"/>
                </a:solidFill>
                <a:latin typeface="Times New Roman"/>
              </a:rPr>
              <a:t>Өнім және қызметке келесі стандарт түрлерін жасайды:</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178920" y="836280"/>
            <a:ext cx="8713800" cy="48243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б) техникалық шарттар стандарттары</a:t>
            </a:r>
            <a:r>
              <a:rPr b="1" lang="ru-RU" sz="3200" spc="-1" strike="noStrike">
                <a:solidFill>
                  <a:srgbClr val="ffffff"/>
                </a:solidFill>
                <a:latin typeface="Times New Roman"/>
              </a:rPr>
              <a:t> - нақты өнімге (қызметке) талаптардан тұрады. (мысалы, ҚР СТ 98295 «Айран. Техникалық шарттар»). Аталған стандарттар, мысалы өнімге келесі бөлімдерден тұрады: жіктелуі; негізгі параметрлері және өлшемдері; техникалық талаптар; қабылдау ержелері; таңбалау; транспорттау; сақта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178920" y="1341360"/>
            <a:ext cx="8713800" cy="3959280"/>
          </a:xfrm>
          <a:prstGeom prst="rect">
            <a:avLst/>
          </a:prstGeom>
          <a:noFill/>
          <a:ln w="0">
            <a:noFill/>
          </a:ln>
        </p:spPr>
        <p:txBody>
          <a:bodyPr lIns="90000" rIns="90000" tIns="46800" bIns="46800" anchor="t">
            <a:normAutofit/>
          </a:bodyPr>
          <a:p>
            <a:pPr marL="547560" indent="-411120" algn="just">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в) жалпы техникалық талаптар стандарттары</a:t>
            </a:r>
            <a:r>
              <a:rPr b="1" lang="ru-RU" sz="3200" spc="-1" strike="noStrike">
                <a:solidFill>
                  <a:srgbClr val="ffffff"/>
                </a:solidFill>
                <a:latin typeface="Times New Roman"/>
              </a:rPr>
              <a:t> - жалпы техникалық шарттар стандарттарының бір бөлімінен ғана тұратын тар мағынадығы стандарттар (мысалы, ҚР СТ 37-98 «машиналы және қолды тігулер. Жалпы техникалық талаптар»);</a:t>
            </a:r>
            <a:endParaRPr b="0" lang="en-US" sz="3200" spc="-1" strike="noStrike">
              <a:solidFill>
                <a:srgbClr val="ffffff"/>
              </a:solidFill>
              <a:latin typeface="Arial"/>
            </a:endParaRPr>
          </a:p>
          <a:p>
            <a:pPr marL="547560" indent="-41112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3T15:41:31Z</dcterms:created>
  <dc:creator>Admin</dc:creator>
  <dc:description/>
  <dc:language>en-US</dc:language>
  <cp:lastModifiedBy>User</cp:lastModifiedBy>
  <dcterms:modified xsi:type="dcterms:W3CDTF">2012-05-10T06:04:40Z</dcterms:modified>
  <cp:revision>5</cp:revision>
  <dc:subject/>
  <dc:title>Әртүрлі стандарттардың сипаттамасы</dc:title>
</cp:coreProperties>
</file>